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jpeg" ContentType="image/jpeg"/>
  <Override PartName="/ppt/media/image4.pct" ContentType="image/x-pict"/>
  <Override PartName="/ppt/media/image5.pct" ContentType="image/x-pict"/>
  <Override PartName="/ppt/media/image6.pct" ContentType="image/x-pict"/>
  <Override PartName="/ppt/media/image9.png" ContentType="image/png"/>
  <Override PartName="/ppt/media/image7.pct" ContentType="image/x-pict"/>
  <Override PartName="/ppt/media/image10.jpeg" ContentType="image/jpeg"/>
  <Override PartName="/ppt/media/image8.pct" ContentType="image/x-pict"/>
  <Override PartName="/ppt/media/image11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6CA5-FFE1-4AB9-B478-D15610AE0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ch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DB6A-C5B8-41A7-85B4-6110FB00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24BC-33CC-489E-A4D8-FADE8B0F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38A4-B844-4C70-A2D6-3A6AEA9E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BFD3-F6A8-4B9B-8F8E-102643C9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3A0E-434C-4904-B30E-61DD01DE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67E4-5671-4B3C-BF6F-F3FF5C34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7212-7889-4C1F-8D30-C50DC7D3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94DD-00E8-48FF-9278-1F8A985A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9431-114D-48AA-956E-BDDF90C9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FBCA-44E7-497E-9143-BB4682BE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E9FC-6279-4998-BAC3-AF374570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BA6-F011-497D-91BC-99098CF2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B3CA-B252-44D6-BAAA-35FE190A8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03640" y="189000"/>
            <a:ext cx="231444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979640" y="1916280"/>
            <a:ext cx="5229360" cy="172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HEKA 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29000" y="3809880"/>
            <a:ext cx="21589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08000" y="189000"/>
            <a:ext cx="504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Copperplate Gothic Bold"/>
              </a:rPr>
              <a:t>The cheka</a:t>
            </a:r>
            <a:endParaRPr b="0" lang="en-US" sz="66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Copperplate Gothic Bold"/>
              <a:ea typeface="Copperplate Gothic Bold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828800"/>
            <a:ext cx="55627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nded: December 1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ull name: All-Russian Extraordinary Commission for Combating Counter-Revolution and Sabotage (the changed name in 1918)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 commonly abbreviated to Cheka or VChe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embers of Cheka are called Chekists, Soviet secret policemen were commonly referred to as “Chekist” and is still used to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ead: Felix Dzerzhinsky (also Commissar for Internal Affa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324480" y="1523880"/>
          <a:ext cx="2210040" cy="221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523880"/>
                    <a:ext cx="221004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638680" y="3886200"/>
            <a:ext cx="2114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39636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979640" y="189000"/>
            <a:ext cx="504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Copperplate Gothic Bold"/>
              </a:rPr>
              <a:t>History</a:t>
            </a:r>
            <a:endParaRPr b="0" lang="en-US" sz="66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Copperplate Gothic Bold"/>
              <a:ea typeface="Copperplate Gothic Bold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1989000"/>
            <a:ext cx="89647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</a:rPr>
              <a:t>Immediately after the October Revolution, during the early days of the Bolshevik rule, the Cheka was form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</a:rPr>
              <a:t>Its immediate precursor was the commission for the struggle with counter-revolu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</a:rPr>
              <a:t>The Cheka was established on December 20th 1917, based on the Sovnarkom deci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</a:rPr>
              <a:t>The Bolsheviks could do whatever necessary to get rid of those who opposed Bolshevik rule or attempted 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4581360"/>
            <a:ext cx="9001080" cy="175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</a:rPr>
              <a:t>Initially, members of the Cheka were exclusively Bolshevik, but from January 1918, left Social Revolutionaries were allowed to join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</a:rPr>
              <a:t>However, the left Social Revolutionaries were expelled or arrested later that year for their attempted rebellion against Bolshevik r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</a:rPr>
              <a:t>In 1922, the Cheka was transformed into the GPU, State Political Administ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57400" y="152280"/>
            <a:ext cx="504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Copperplate Gothic Bold"/>
              </a:rPr>
              <a:t>Operations</a:t>
            </a:r>
            <a:endParaRPr b="0" lang="en-US" sz="66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Copperplate Gothic Bold"/>
              <a:ea typeface="Copperplate Gothic Bold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676520"/>
            <a:ext cx="883908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formed mass arrests, imprisonments and executions of “enemies of the peop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ed class enim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urgeois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s of cl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cal oppon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tigated the Red Terror (Dzerzhinsky) on September 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91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ing an attempt on the life of Len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ised repression campaigns against Petrograd Sociali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executions without tri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cked down deserters and punished any assistance towards th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milies used as host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1918-1920, estimated minimum number of people killed around 12,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ressed the Kronstadt rebell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2361960" cy="1563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086600" y="2209680"/>
            <a:ext cx="1612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1523880"/>
          <a:ext cx="4647960" cy="305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464796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 txBox="1"/>
          <p:nvPr/>
        </p:nvSpPr>
        <p:spPr>
          <a:xfrm>
            <a:off x="2057400" y="152280"/>
            <a:ext cx="504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Copperplate Gothic Bold"/>
              </a:rPr>
              <a:t>VICTIMS</a:t>
            </a:r>
            <a:endParaRPr b="0" lang="en-US" sz="66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Copperplate Gothic Bold"/>
              <a:ea typeface="Copperplate Gothic Bold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1371600"/>
            <a:ext cx="4191120" cy="32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were a huge number of people who, if against the Bolsheviks, would be killed by the Cheka. Some called them the ‘’Red horror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one said during 1918 there were about 6,000 people being killed. In 1919 (up to July) there were about 2,000. Total was about 8,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228600" y="4402080"/>
            <a:ext cx="79246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</a:t>
            </a:r>
            <a:r>
              <a:rPr b="0" lang="en-US" sz="1800" spc="-1" strike="noStrike">
                <a:solidFill>
                  <a:srgbClr val="ffffff"/>
                </a:solidFill>
                <a:latin typeface="Hei"/>
              </a:rPr>
              <a:t>W. H. Chamberlin, who study in history said, ‘it is simply impossible to believe </a:t>
            </a:r>
            <a:r>
              <a:rPr b="0" lang="en-US" sz="1800" spc="-1" strike="noStrike">
                <a:solidFill>
                  <a:srgbClr val="ffffff"/>
                </a:solidFill>
                <a:latin typeface="Hei"/>
                <a:ea typeface="Hei"/>
              </a:rPr>
              <a:t>that</a:t>
            </a:r>
            <a:r>
              <a:rPr b="0" lang="en-US" sz="1800" spc="-1" strike="noStrike">
                <a:solidFill>
                  <a:srgbClr val="ffffff"/>
                </a:solidFill>
                <a:latin typeface="Hei"/>
              </a:rPr>
              <a:t> the Cheka only put to death </a:t>
            </a:r>
            <a:r>
              <a:rPr b="0" lang="en-US" sz="1800" spc="-1" strike="noStrike">
                <a:solidFill>
                  <a:srgbClr val="ffffff"/>
                </a:solidFill>
                <a:latin typeface="Hei"/>
                <a:ea typeface="Hei"/>
              </a:rPr>
              <a:t>12,733</a:t>
            </a:r>
            <a:r>
              <a:rPr b="0" lang="en-US" sz="1800" spc="-1" strike="noStrike">
                <a:solidFill>
                  <a:srgbClr val="ffffff"/>
                </a:solidFill>
                <a:latin typeface="Hei"/>
              </a:rPr>
              <a:t> people in all of Russia up to the end of the civil war.’ and he also said that there were total about 50</a:t>
            </a:r>
            <a:r>
              <a:rPr b="0" lang="en-US" sz="1800" spc="-1" strike="noStrike">
                <a:solidFill>
                  <a:srgbClr val="ffffff"/>
                </a:solidFill>
                <a:latin typeface="Hei"/>
                <a:ea typeface="华文细黑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Hei"/>
              </a:rPr>
              <a:t>000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must lose their lives. However others said that it must be 500,000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So no one sure how many people be kill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828800" y="152280"/>
            <a:ext cx="504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Copperplate Gothic Bold"/>
              </a:rPr>
              <a:t>ATROCITIES</a:t>
            </a:r>
            <a:endParaRPr b="0" lang="en-US" sz="66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Copperplate Gothic Bold"/>
              <a:ea typeface="Copperplate Gothic Bold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1628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heka were not merciless with their victims. They w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2133720"/>
            <a:ext cx="302112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kinned alive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alped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wned with barbed w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ucified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nged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ned to death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ed to planks and pushed slowly into furnaces or tanks of boiling water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lled around naked in internally nail studded barre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32360" y="2133720"/>
            <a:ext cx="511164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would even pour water on naked prisoners out in the streets during winter until they froze to dea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s beheaded their victims by twisting their necks until their heads could be torn of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men and children were also victims. The women would be tortured and raped before being shot, and children between the ages of 8 to 16 were imprisoned and occasionally execu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2209680" cy="1852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154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048120" y="2362320"/>
            <a:ext cx="1066680" cy="3124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5562720" y="5181480"/>
            <a:ext cx="228600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79640" y="189000"/>
            <a:ext cx="504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Copperplate Gothic Bold"/>
              </a:rPr>
              <a:t>POPULARITY </a:t>
            </a:r>
            <a:endParaRPr b="0" lang="en-US" sz="66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Copperplate Gothic Bold"/>
              <a:ea typeface="Copperplate Gothic Bold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1676520"/>
            <a:ext cx="312408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pular staples in Soviet film and 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e to romanticization of organization during post-stalin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vided useful action/detection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3287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0920" y="5013360"/>
            <a:ext cx="86612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y livia, richard, nathan and ashley :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132000" y="189000"/>
            <a:ext cx="266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771640" y="1773360"/>
            <a:ext cx="28814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0:32:01Z</dcterms:created>
  <dc:creator>ashley martin</dc:creator>
  <dc:description/>
  <dc:language>en-US</dc:language>
  <cp:lastModifiedBy>apple apple</cp:lastModifiedBy>
  <dcterms:modified xsi:type="dcterms:W3CDTF">2007-11-08T04:11:01Z</dcterms:modified>
  <cp:revision>22</cp:revision>
  <dc:subject/>
  <dc:title>Slide 1</dc:title>
</cp:coreProperties>
</file>